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ED8E-D1FE-4179-9766-647531C1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858-6F6E-4D1D-ACA1-0C2D400C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F755-8D97-4460-B0D0-B3FC1DEBA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809B-3AA0-4A6C-8E73-6B9A3DD14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A8AC8-0FEA-4D12-B79A-FA00DD59C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24CF8-6C32-47CD-A2DF-A70DDC80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6D1A-8E03-4F1B-AC58-B4FC8AFF2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F50A-D6CF-449B-AF91-995C3472A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CA3C-00D8-4A1D-97D9-509ADE15B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F020-BD55-4050-8A8C-68AD531F2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3A4F-D946-4D8A-A0C3-7CBB14560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7B0-F85B-4ED5-8402-3D409F48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DDF8-0588-4D32-9BD5-01F5AEB52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0239-5FA1-491A-8132-29E22DDF4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8DBC-592F-44FE-92D9-B50E14211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09BAD-76DA-499E-88CB-105F623ED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DD91-01DE-4513-A016-2674ACE14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A68988-384E-4DB6-AA8E-5B14F784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FF9DF-D032-4B41-B600-2563101B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C3C2C-F0EE-4049-993E-3DF1F68DF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AC860-D72E-4A1F-84E6-B549F351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AF511-D1B1-46FA-A47D-44498706C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553E-CA02-42C0-A943-2997A766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8D2A8-C63F-4943-8A1D-7FCC4C7EC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FD9D4-2F71-4EF8-9773-816880E24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A8FEF-47D6-4814-A26A-2CB29945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3AAC7-1935-45D6-BD7E-E8D0C838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42DCC-81F1-4FDA-B1AB-46C545612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50A83-21EC-4D1D-9785-E1AC0DE0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B550C8-FAF5-4421-8BAA-09CE103F6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3E30C-DC1E-4075-98CC-8AE538DE9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B7D79-8B5F-40DE-8397-B152DCC2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0C621-FC42-4429-806E-9B854CA43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66AB-711C-46A2-A4F9-C45E512C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A8E0E-6A41-406D-930B-25013C5EE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BEF25-718E-4BA8-B906-33249D406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5A5319-6182-45A9-84B6-53B90B9D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B0C28-73E1-44A8-B9D2-F05572C3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501BC-DD98-4CD6-A3F4-31E6C447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DB707-3829-404E-BD5B-D868D176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F5DF39-0513-418B-88D9-AAE333A8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89E12-8CB8-4C99-913F-B73755C8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E3404-477A-4C7C-A134-F6D4BA603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020B2-E77F-43C5-9C7F-7BDBABE28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D526-198C-4936-A8D4-886F7A8F1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B3119-C01F-47D9-A1D1-5288308A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8FAA4-CC8B-487B-B2A9-03DF43E0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DCD82E-A5A8-49A6-83EA-CB959B25D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07E3C-AACB-48E3-8A34-789B938A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DA044-CF75-4CFB-927E-256B668C9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314CF-23EC-4796-B55E-218603E8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57EE4-13C9-455C-823F-D8D1B3A5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B5809A-5FC5-4254-99BF-44F4D4D2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692E4-3376-4E9F-9104-B3389A0B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75E05-2845-4D3B-8338-656E0B44B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456C-CD48-4BCA-AF9F-2C505EA8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BF703-581B-4580-A1B2-6A108DEF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33D9-A805-4C52-BA8E-0B3ED2DA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13547-8752-42C9-9841-5FD51BBE5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B496-985B-4D03-A6BB-B183270A2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CDD99-659F-41B8-BC09-8C916CA9BF58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B2D83-6411-4B02-BA57-5AA8967AC067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89" name="Straight Connector 6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A0D65-74DA-488E-873D-8CC291FAD084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3" name="Straight Connector 10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EE772-B9CC-4484-A9FE-DFD5E4A904E2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17991-2654-4D09-8ECA-3582699E5163}" type="slidenum">
              <a:rPr b="1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0" y="1828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b20f02"/>
                </a:solidFill>
                <a:latin typeface="Verdana"/>
              </a:rPr>
              <a:t>EL MUNDO SUBTERRÁNEO</a:t>
            </a:r>
            <a:endParaRPr b="0" lang="en-US" sz="4000" spc="-1" strike="noStrike">
              <a:solidFill>
                <a:srgbClr val="292934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990720" y="30034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b20f02"/>
                </a:solidFill>
                <a:latin typeface="Verdana"/>
              </a:rPr>
              <a:t>IMÁGENES DEL MÁS ALLÁ</a:t>
            </a:r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D:\imágenes de Carmen\mitologicas\Tantalus_(Picart).jpg"/>
          <p:cNvPicPr/>
          <p:nvPr/>
        </p:nvPicPr>
        <p:blipFill>
          <a:blip r:embed="rId1"/>
          <a:stretch/>
        </p:blipFill>
        <p:spPr>
          <a:xfrm>
            <a:off x="2340000" y="333360"/>
            <a:ext cx="48769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D:\imágenes de Carmen\mitologicas\Tizio.jpg"/>
          <p:cNvPicPr/>
          <p:nvPr/>
        </p:nvPicPr>
        <p:blipFill>
          <a:blip r:embed="rId1"/>
          <a:stretch/>
        </p:blipFill>
        <p:spPr>
          <a:xfrm>
            <a:off x="1682640" y="0"/>
            <a:ext cx="577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2533c"/>
                </a:solidFill>
                <a:latin typeface="Verdana"/>
              </a:rPr>
              <a:t>ELEUSIS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33" name="Picture 4" descr="D:\imágenes de Carmen\becaonasis\Eleusis\100_4118.JPG"/>
          <p:cNvPicPr/>
          <p:nvPr/>
        </p:nvPicPr>
        <p:blipFill>
          <a:blip r:embed="rId1"/>
          <a:stretch/>
        </p:blipFill>
        <p:spPr>
          <a:xfrm>
            <a:off x="533520" y="552600"/>
            <a:ext cx="830556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D:\imágenes de Carmen\mitologicas\DemeteryPersefone.jpg"/>
          <p:cNvPicPr/>
          <p:nvPr/>
        </p:nvPicPr>
        <p:blipFill>
          <a:blip r:embed="rId1"/>
          <a:stretch/>
        </p:blipFill>
        <p:spPr>
          <a:xfrm>
            <a:off x="2050920" y="390600"/>
            <a:ext cx="5203800" cy="64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D:\imágenes de Carmen\mitologicas\proserpinaAbbatesXVI.jpg"/>
          <p:cNvPicPr/>
          <p:nvPr/>
        </p:nvPicPr>
        <p:blipFill>
          <a:blip r:embed="rId1"/>
          <a:stretch/>
        </p:blipFill>
        <p:spPr>
          <a:xfrm>
            <a:off x="1116000" y="352440"/>
            <a:ext cx="739476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D:\imágenes de Carmen\mitologicas\raptodeproserpina.jpg"/>
          <p:cNvPicPr/>
          <p:nvPr/>
        </p:nvPicPr>
        <p:blipFill>
          <a:blip r:embed="rId1"/>
          <a:stretch/>
        </p:blipFill>
        <p:spPr>
          <a:xfrm>
            <a:off x="0" y="717480"/>
            <a:ext cx="9144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D:\imágenes de Carmen\mitologicas\RUBENSraptodeproserpina.jpg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5" descr="D:\imágenes de Carmen\mitologicas\proserpina.jpg"/>
          <p:cNvPicPr/>
          <p:nvPr/>
        </p:nvPicPr>
        <p:blipFill>
          <a:blip r:embed="rId1"/>
          <a:stretch/>
        </p:blipFill>
        <p:spPr>
          <a:xfrm>
            <a:off x="2590920" y="345960"/>
            <a:ext cx="3636720" cy="651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4" descr="D:\imágenes de Carmen\mitologicas\persefone.jpg"/>
          <p:cNvPicPr/>
          <p:nvPr/>
        </p:nvPicPr>
        <p:blipFill>
          <a:blip r:embed="rId1"/>
          <a:stretch/>
        </p:blipFill>
        <p:spPr>
          <a:xfrm>
            <a:off x="0" y="361800"/>
            <a:ext cx="9144000" cy="613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D:\imágenes de Carmen\mitologicas\orfeo\jsellaio2.jpg"/>
          <p:cNvPicPr/>
          <p:nvPr/>
        </p:nvPicPr>
        <p:blipFill>
          <a:blip r:embed="rId1"/>
          <a:stretch/>
        </p:blipFill>
        <p:spPr>
          <a:xfrm>
            <a:off x="0" y="1932120"/>
            <a:ext cx="91440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2533c"/>
                </a:solidFill>
                <a:latin typeface="Verdana"/>
              </a:rPr>
              <a:t>EL MUNDO SUBTERRÁNEO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22" name="Picture 4" descr="D:\imágenes de Carmen\mitologicas\mapamundosubterraneo.gif"/>
          <p:cNvPicPr/>
          <p:nvPr/>
        </p:nvPicPr>
        <p:blipFill>
          <a:blip r:embed="rId1"/>
          <a:stretch/>
        </p:blipFill>
        <p:spPr>
          <a:xfrm>
            <a:off x="1143000" y="838080"/>
            <a:ext cx="6629400" cy="53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4" descr="D:\imágenes de Carmen\mitologicas\orfeo\metamorphoses2.jpg"/>
          <p:cNvPicPr/>
          <p:nvPr/>
        </p:nvPicPr>
        <p:blipFill>
          <a:blip r:embed="rId1"/>
          <a:stretch/>
        </p:blipFill>
        <p:spPr>
          <a:xfrm>
            <a:off x="1116000" y="366840"/>
            <a:ext cx="7488360" cy="65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4" descr="D:\imágenes de Carmen\mitologicas\orfeo\jbrueghel2.jpg"/>
          <p:cNvPicPr/>
          <p:nvPr/>
        </p:nvPicPr>
        <p:blipFill>
          <a:blip r:embed="rId1"/>
          <a:stretch/>
        </p:blipFill>
        <p:spPr>
          <a:xfrm>
            <a:off x="0" y="19044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4" name="Picture 4" descr="D:\imágenes de Carmen\mitologicas\orfeo\orpheorubens.jpg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4" descr="D:\imágenes de Carmen\mitologicas\orfeo\abronzino-medici2.jpg"/>
          <p:cNvPicPr/>
          <p:nvPr/>
        </p:nvPicPr>
        <p:blipFill>
          <a:blip r:embed="rId1"/>
          <a:stretch/>
        </p:blipFill>
        <p:spPr>
          <a:xfrm>
            <a:off x="1776240" y="0"/>
            <a:ext cx="558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D:\imágenes de Carmen\mitologicas\orfeo\npoussin-orpheus2.jpg"/>
          <p:cNvPicPr/>
          <p:nvPr/>
        </p:nvPicPr>
        <p:blipFill>
          <a:blip r:embed="rId1"/>
          <a:stretch/>
        </p:blipFill>
        <p:spPr>
          <a:xfrm>
            <a:off x="0" y="663480"/>
            <a:ext cx="9144000" cy="55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457200" y="1599840"/>
            <a:ext cx="8229600" cy="48769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4" descr="D:\imágenes de Carmen\mitologicas\orfeo\corot_orpheus2.jpg"/>
          <p:cNvPicPr/>
          <p:nvPr/>
        </p:nvPicPr>
        <p:blipFill>
          <a:blip r:embed="rId2"/>
          <a:stretch/>
        </p:blipFill>
        <p:spPr>
          <a:xfrm>
            <a:off x="457200" y="-36360"/>
            <a:ext cx="830592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d2533c"/>
                </a:solidFill>
                <a:latin typeface="Verdana"/>
              </a:rPr>
              <a:t>El Nekromanteion de Efira</a:t>
            </a:r>
            <a:endParaRPr b="0" lang="en-US" sz="2400" spc="-1" strike="noStrike">
              <a:solidFill>
                <a:srgbClr val="d2533c"/>
              </a:solidFill>
              <a:latin typeface="Arial"/>
            </a:endParaRPr>
          </a:p>
        </p:txBody>
      </p:sp>
      <p:pic>
        <p:nvPicPr>
          <p:cNvPr id="251" name="Picture 4" descr="D:\imágenes de Carmen\mapas\KorfuArea.gif"/>
          <p:cNvPicPr/>
          <p:nvPr/>
        </p:nvPicPr>
        <p:blipFill>
          <a:blip r:embed="rId1"/>
          <a:stretch/>
        </p:blipFill>
        <p:spPr>
          <a:xfrm>
            <a:off x="549360" y="1839960"/>
            <a:ext cx="4551120" cy="3965400"/>
          </a:xfrm>
          <a:prstGeom prst="rect">
            <a:avLst/>
          </a:prstGeom>
          <a:ln w="0">
            <a:noFill/>
          </a:ln>
        </p:spPr>
      </p:pic>
      <p:pic>
        <p:nvPicPr>
          <p:cNvPr id="252" name="1 Imagen" descr=""/>
          <p:cNvPicPr/>
          <p:nvPr/>
        </p:nvPicPr>
        <p:blipFill>
          <a:blip r:embed="rId2"/>
          <a:stretch/>
        </p:blipFill>
        <p:spPr>
          <a:xfrm>
            <a:off x="6084720" y="1839960"/>
            <a:ext cx="2826000" cy="2536920"/>
          </a:xfrm>
          <a:prstGeom prst="rect">
            <a:avLst/>
          </a:prstGeom>
          <a:ln w="0">
            <a:noFill/>
          </a:ln>
        </p:spPr>
      </p:pic>
      <p:cxnSp>
        <p:nvCxnSpPr>
          <p:cNvPr id="253" name="5 Conector recto de flecha"/>
          <p:cNvCxnSpPr/>
          <p:nvPr/>
        </p:nvCxnSpPr>
        <p:spPr>
          <a:xfrm flipH="1">
            <a:off x="3203280" y="2637000"/>
            <a:ext cx="3169440" cy="2232720"/>
          </a:xfrm>
          <a:prstGeom prst="straightConnector1">
            <a:avLst/>
          </a:prstGeom>
          <a:ln w="26280">
            <a:solidFill>
              <a:srgbClr val="808da0"/>
            </a:solidFill>
            <a:miter/>
            <a:tailEnd len="med" type="arrow" w="med"/>
          </a:ln>
        </p:spPr>
      </p:cxnSp>
      <p:sp>
        <p:nvSpPr>
          <p:cNvPr id="254" name="6 Forma libre"/>
          <p:cNvSpPr/>
          <p:nvPr/>
        </p:nvSpPr>
        <p:spPr>
          <a:xfrm>
            <a:off x="6342120" y="2103480"/>
            <a:ext cx="772920" cy="709560"/>
          </a:xfrm>
          <a:custGeom>
            <a:avLst/>
            <a:gdLst/>
            <a:ahLst/>
            <a:rect l="l" t="t" r="r" b="b"/>
            <a:pathLst>
              <a:path w="773723" h="709636">
                <a:moveTo>
                  <a:pt x="527538" y="17975"/>
                </a:moveTo>
                <a:cubicBezTo>
                  <a:pt x="412205" y="-5092"/>
                  <a:pt x="428421" y="-6875"/>
                  <a:pt x="246184" y="17975"/>
                </a:cubicBezTo>
                <a:cubicBezTo>
                  <a:pt x="232224" y="19879"/>
                  <a:pt x="223890" y="35699"/>
                  <a:pt x="211015" y="41421"/>
                </a:cubicBezTo>
                <a:cubicBezTo>
                  <a:pt x="188431" y="51458"/>
                  <a:pt x="140677" y="64867"/>
                  <a:pt x="140677" y="64867"/>
                </a:cubicBezTo>
                <a:cubicBezTo>
                  <a:pt x="85581" y="119962"/>
                  <a:pt x="114704" y="86241"/>
                  <a:pt x="58615" y="170375"/>
                </a:cubicBezTo>
                <a:cubicBezTo>
                  <a:pt x="50800" y="182098"/>
                  <a:pt x="39624" y="192178"/>
                  <a:pt x="35169" y="205544"/>
                </a:cubicBezTo>
                <a:cubicBezTo>
                  <a:pt x="8372" y="285935"/>
                  <a:pt x="40016" y="186157"/>
                  <a:pt x="11723" y="299329"/>
                </a:cubicBezTo>
                <a:cubicBezTo>
                  <a:pt x="8726" y="311317"/>
                  <a:pt x="3908" y="322775"/>
                  <a:pt x="0" y="334498"/>
                </a:cubicBezTo>
                <a:cubicBezTo>
                  <a:pt x="10150" y="446149"/>
                  <a:pt x="256" y="446506"/>
                  <a:pt x="35169" y="533790"/>
                </a:cubicBezTo>
                <a:cubicBezTo>
                  <a:pt x="42984" y="553329"/>
                  <a:pt x="47462" y="574561"/>
                  <a:pt x="58615" y="592406"/>
                </a:cubicBezTo>
                <a:cubicBezTo>
                  <a:pt x="80950" y="628143"/>
                  <a:pt x="99363" y="626363"/>
                  <a:pt x="128953" y="651021"/>
                </a:cubicBezTo>
                <a:cubicBezTo>
                  <a:pt x="141689" y="661635"/>
                  <a:pt x="150328" y="676994"/>
                  <a:pt x="164123" y="686190"/>
                </a:cubicBezTo>
                <a:cubicBezTo>
                  <a:pt x="183363" y="699016"/>
                  <a:pt x="261118" y="708217"/>
                  <a:pt x="269630" y="709636"/>
                </a:cubicBezTo>
                <a:cubicBezTo>
                  <a:pt x="359798" y="704001"/>
                  <a:pt x="441365" y="705339"/>
                  <a:pt x="527538" y="686190"/>
                </a:cubicBezTo>
                <a:cubicBezTo>
                  <a:pt x="539601" y="683509"/>
                  <a:pt x="551654" y="679993"/>
                  <a:pt x="562707" y="674467"/>
                </a:cubicBezTo>
                <a:cubicBezTo>
                  <a:pt x="575949" y="667846"/>
                  <a:pt x="637891" y="629803"/>
                  <a:pt x="656492" y="615852"/>
                </a:cubicBezTo>
                <a:cubicBezTo>
                  <a:pt x="676509" y="600839"/>
                  <a:pt x="695569" y="584591"/>
                  <a:pt x="715107" y="568960"/>
                </a:cubicBezTo>
                <a:lnTo>
                  <a:pt x="750277" y="463452"/>
                </a:lnTo>
                <a:cubicBezTo>
                  <a:pt x="754185" y="451729"/>
                  <a:pt x="759577" y="440400"/>
                  <a:pt x="762000" y="428283"/>
                </a:cubicBezTo>
                <a:lnTo>
                  <a:pt x="773723" y="369667"/>
                </a:lnTo>
                <a:cubicBezTo>
                  <a:pt x="769815" y="326682"/>
                  <a:pt x="774179" y="282121"/>
                  <a:pt x="762000" y="240713"/>
                </a:cubicBezTo>
                <a:cubicBezTo>
                  <a:pt x="740178" y="166519"/>
                  <a:pt x="722110" y="182072"/>
                  <a:pt x="679938" y="146929"/>
                </a:cubicBezTo>
                <a:cubicBezTo>
                  <a:pt x="667202" y="136315"/>
                  <a:pt x="657505" y="122374"/>
                  <a:pt x="644769" y="111760"/>
                </a:cubicBezTo>
                <a:cubicBezTo>
                  <a:pt x="633945" y="102740"/>
                  <a:pt x="620424" y="97333"/>
                  <a:pt x="609600" y="88313"/>
                </a:cubicBezTo>
                <a:cubicBezTo>
                  <a:pt x="584723" y="67582"/>
                  <a:pt x="571011" y="41604"/>
                  <a:pt x="539261" y="29698"/>
                </a:cubicBezTo>
                <a:cubicBezTo>
                  <a:pt x="520604" y="22702"/>
                  <a:pt x="500184" y="21883"/>
                  <a:pt x="480646" y="17975"/>
                </a:cubicBezTo>
                <a:cubicBezTo>
                  <a:pt x="304917" y="43079"/>
                  <a:pt x="371786" y="41421"/>
                  <a:pt x="281353" y="41421"/>
                </a:cubicBezTo>
              </a:path>
            </a:pathLst>
          </a:custGeom>
          <a:noFill/>
          <a:ln w="26280">
            <a:solidFill>
              <a:srgbClr val="6b766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2929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4" descr="D:\imágenes de Carmen\mapasyplanos\necromanteionplano.bmp"/>
          <p:cNvPicPr/>
          <p:nvPr/>
        </p:nvPicPr>
        <p:blipFill>
          <a:blip r:embed="rId1"/>
          <a:stretch/>
        </p:blipFill>
        <p:spPr>
          <a:xfrm>
            <a:off x="0" y="1274760"/>
            <a:ext cx="91440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D:\imágenes de Carmen\mitologicas\hades2-2.jpg"/>
          <p:cNvPicPr/>
          <p:nvPr/>
        </p:nvPicPr>
        <p:blipFill>
          <a:blip r:embed="rId1"/>
          <a:stretch/>
        </p:blipFill>
        <p:spPr>
          <a:xfrm>
            <a:off x="2654280" y="333360"/>
            <a:ext cx="40910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D:\imágenes de Carmen\mitologicas\elpasodelalagunaestigiapatinir.jpg"/>
          <p:cNvPicPr/>
          <p:nvPr/>
        </p:nvPicPr>
        <p:blipFill>
          <a:blip r:embed="rId1"/>
          <a:stretch/>
        </p:blipFill>
        <p:spPr>
          <a:xfrm>
            <a:off x="0" y="623880"/>
            <a:ext cx="9144000" cy="56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4" descr="D:\imágenes de Carmen\mitologicas\9caronte.jpg"/>
          <p:cNvPicPr/>
          <p:nvPr/>
        </p:nvPicPr>
        <p:blipFill>
          <a:blip r:embed="rId1"/>
          <a:stretch/>
        </p:blipFill>
        <p:spPr>
          <a:xfrm>
            <a:off x="2071800" y="0"/>
            <a:ext cx="500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D:\imágenes de Carmen\mitologicas\19cerbero.jpg"/>
          <p:cNvPicPr/>
          <p:nvPr/>
        </p:nvPicPr>
        <p:blipFill>
          <a:blip r:embed="rId1"/>
          <a:stretch/>
        </p:blipFill>
        <p:spPr>
          <a:xfrm>
            <a:off x="304920" y="476280"/>
            <a:ext cx="8534160" cy="68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4" descr="D:\imágenes de Carmen\mitologicas\cerberobomarzo.jpg"/>
          <p:cNvPicPr/>
          <p:nvPr/>
        </p:nvPicPr>
        <p:blipFill>
          <a:blip r:embed="rId1"/>
          <a:stretch/>
        </p:blipFill>
        <p:spPr>
          <a:xfrm>
            <a:off x="0" y="38880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D:\imágenes de Carmen\mitologicas\cancerbero.jp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9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4" descr="D:\imágenes de Carmen\mitologicas\sisifo.jpg"/>
          <p:cNvPicPr/>
          <p:nvPr/>
        </p:nvPicPr>
        <p:blipFill>
          <a:blip r:embed="rId1"/>
          <a:stretch/>
        </p:blipFill>
        <p:spPr>
          <a:xfrm>
            <a:off x="1563840" y="0"/>
            <a:ext cx="601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2:38:44Z</dcterms:created>
  <dc:creator>Carmen</dc:creator>
  <dc:description/>
  <dc:language>en-US</dc:language>
  <cp:lastModifiedBy>carmen.lacruz</cp:lastModifiedBy>
  <dcterms:modified xsi:type="dcterms:W3CDTF">2015-07-28T08:40:28Z</dcterms:modified>
  <cp:revision>6</cp:revision>
  <dc:subject/>
  <dc:title>Presentación de PowerPoint</dc:title>
</cp:coreProperties>
</file>