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3A3-4213-4F7C-886C-319568F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700-C04F-4C97-A7A8-65143F72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456-F8DF-4786-9EFA-67854A30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2B1-182A-45E9-AAD5-8E235566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9DA-2918-41CA-92EC-2B464D1B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C881-2B69-4AC2-9A7C-A62A685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56DB-861A-49C2-82D6-FE811B7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9053-35DF-44F9-AC51-AEAA00F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F6B-3583-4642-A856-5F6B220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C660-913A-4815-9276-E38ED0D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EE68-083D-4028-98DB-4BDD209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062-200D-4AA6-8F46-5D19B34A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5371-2D46-4086-B9E2-F95C3624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2B8-7AD7-4978-8ABB-DF87EDC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85F9-89BE-4A90-9C4A-D4E84163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8B97-FC81-4F64-8552-15D9908E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059-F3FB-4A48-9657-1C2EAFD3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2D10-5F2B-4B2B-8600-FFFB1E12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D652-EF23-41F0-8164-FB95876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5C83-DD5E-4D49-ABAB-C33A335C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B7F2-B3F0-46D4-AB07-BA20AC6E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5907-17FB-4F1B-B24C-47CD3F94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415-9958-41A0-BA68-3FA21A36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263B-33DA-4C5D-9763-D5CE6E31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9CA9-1DD4-41F0-9B93-B6E84F4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E419-4109-48BD-BA21-57080A3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2FB6-5266-4839-B589-C1BB159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C424-DF63-4058-A6CC-7D7CAEBF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6C8F-6A60-4093-A592-1981B216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3B61-B809-4AC1-B245-F919706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B037-AFFF-47D2-B0CB-B0869B3B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CCC6-071F-4DD8-BAD3-FF18B9A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9981-37D1-4EE7-8733-9252C87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0F5-0F3D-4253-B58B-198766C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B333-3733-4D9A-91A6-0401297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C787-4BE3-44B2-BD6F-368DB55A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8D97-BF0B-4CE6-9745-4BAFECD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D89E-97FC-482B-85CF-4262A99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1DCB-8CFF-4EF7-B743-83E7A2B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6B69-75E4-45B5-8692-F52B722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8E57-6CF8-492E-ABD5-55BE6AE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91B7-A95B-4BA1-BDAA-68957A5A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CE3B-E814-4CF1-9F07-6A16F516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A731-173E-4A98-9C16-FF207BF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988-DA09-4AE4-884F-929B080A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EFA66-2865-4AAB-8BFF-027274A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50C7-06F4-4B61-88A5-CC64310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E699-8716-4230-B871-A8D12DE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39BB-663A-49DC-9824-164A1C3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B46D-1338-4490-BD98-C1721023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CF0B-A63E-4FFC-BC83-190F119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7654-0CB4-4791-82E6-CE71DA5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E86D-2DEE-4C83-B116-A85BAE7B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87A5-8CE4-4D3E-AE21-BF9CD57B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7477-BD36-4B38-87A3-5AAC1768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D2C-8135-48D9-9A8A-BD9A76BF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E1C9-20CF-44EB-83BB-08013AC9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249-7330-4363-A192-D2DBC85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B5D-5AA2-4832-8BAB-2AC4F59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31B-12E8-49D5-8077-DD3A10A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B38F-699B-44A0-8033-64FCA0D7CFB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718E-7972-4F3F-AE40-ADF125B893F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96C-2B96-4B26-B604-F80E2112516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00E-6502-4D6F-A42D-CE2A5B14BCB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9C8-55A3-4F6F-A8DB-0F1FAC09580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18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20f02"/>
                </a:solidFill>
                <a:latin typeface="Verdana"/>
              </a:rPr>
              <a:t>EL MUNDO SUBTERRÁNEO</a:t>
            </a:r>
            <a:endParaRPr b="0" lang="en-US" sz="4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3003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0f02"/>
                </a:solidFill>
                <a:latin typeface="Verdana"/>
              </a:rPr>
              <a:t>IMÁGENES DEL MÁS ALLÁ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D:\imágenes de Carmen\mitologicas\Tantalus_(Picart).jpg"/>
          <p:cNvPicPr/>
          <p:nvPr/>
        </p:nvPicPr>
        <p:blipFill>
          <a:blip r:embed="rId1"/>
          <a:stretch/>
        </p:blipFill>
        <p:spPr>
          <a:xfrm>
            <a:off x="2340000" y="333360"/>
            <a:ext cx="48769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D:\imágenes de Carmen\mitologicas\Tizio.jpg"/>
          <p:cNvPicPr/>
          <p:nvPr/>
        </p:nvPicPr>
        <p:blipFill>
          <a:blip r:embed="rId1"/>
          <a:stretch/>
        </p:blipFill>
        <p:spPr>
          <a:xfrm>
            <a:off x="1682640" y="0"/>
            <a:ext cx="57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EUSIS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4" descr="D:\imágenes de Carmen\becaonasis\Eleusis\100_4118.JPG"/>
          <p:cNvPicPr/>
          <p:nvPr/>
        </p:nvPicPr>
        <p:blipFill>
          <a:blip r:embed="rId1"/>
          <a:stretch/>
        </p:blipFill>
        <p:spPr>
          <a:xfrm>
            <a:off x="533520" y="55260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D:\imágenes de Carmen\mitologicas\DemeteryPersefone.jpg"/>
          <p:cNvPicPr/>
          <p:nvPr/>
        </p:nvPicPr>
        <p:blipFill>
          <a:blip r:embed="rId1"/>
          <a:stretch/>
        </p:blipFill>
        <p:spPr>
          <a:xfrm>
            <a:off x="2050920" y="390600"/>
            <a:ext cx="52038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D:\imágenes de Carmen\mitologicas\proserpinaAbbatesXVI.jpg"/>
          <p:cNvPicPr/>
          <p:nvPr/>
        </p:nvPicPr>
        <p:blipFill>
          <a:blip r:embed="rId1"/>
          <a:stretch/>
        </p:blipFill>
        <p:spPr>
          <a:xfrm>
            <a:off x="1116000" y="352440"/>
            <a:ext cx="73947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D:\imágenes de Carmen\mitologicas\raptodeproserpina.jpg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D:\imágenes de Carmen\mitologicas\RUBENSraptodeproserpina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:\imágenes de Carmen\mitologicas\proserpina.jpg"/>
          <p:cNvPicPr/>
          <p:nvPr/>
        </p:nvPicPr>
        <p:blipFill>
          <a:blip r:embed="rId1"/>
          <a:stretch/>
        </p:blipFill>
        <p:spPr>
          <a:xfrm>
            <a:off x="2590920" y="345960"/>
            <a:ext cx="363672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D:\imágenes de Carmen\mitologicas\persefone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D:\imágenes de Carmen\mitologicas\orfeo\jsellaio2.jpg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 MUNDO SUBTERRÁNEO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2" name="Picture 4" descr="D:\imágenes de Carmen\mitologicas\mapamundosubterraneo.gif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D:\imágenes de Carmen\mitologicas\orfeo\metamorphoses2.jpg"/>
          <p:cNvPicPr/>
          <p:nvPr/>
        </p:nvPicPr>
        <p:blipFill>
          <a:blip r:embed="rId1"/>
          <a:stretch/>
        </p:blipFill>
        <p:spPr>
          <a:xfrm>
            <a:off x="1116000" y="366840"/>
            <a:ext cx="7488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D:\imágenes de Carmen\mitologicas\orfeo\jbrueghel2.jpg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4" name="Picture 4" descr="D:\imágenes de Carmen\mitologicas\orfeo\orpheorubens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:\imágenes de Carmen\mitologicas\orfeo\abronzino-medici2.jpg"/>
          <p:cNvPicPr/>
          <p:nvPr/>
        </p:nvPicPr>
        <p:blipFill>
          <a:blip r:embed="rId1"/>
          <a:stretch/>
        </p:blipFill>
        <p:spPr>
          <a:xfrm>
            <a:off x="177624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D:\imágenes de Carmen\mitologicas\orfeo\npoussin-orpheus2.jpg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imágenes de Carmen\mitologicas\orfeo\corot_orpheus2.jpg"/>
          <p:cNvPicPr/>
          <p:nvPr/>
        </p:nvPicPr>
        <p:blipFill>
          <a:blip r:embed="rId2"/>
          <a:stretch/>
        </p:blipFill>
        <p:spPr>
          <a:xfrm>
            <a:off x="457200" y="-36360"/>
            <a:ext cx="83059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 Nekromanteion de Efira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4" descr="D:\imágenes de Carmen\mapas\KorfuArea.gif"/>
          <p:cNvPicPr/>
          <p:nvPr/>
        </p:nvPicPr>
        <p:blipFill>
          <a:blip r:embed="rId1"/>
          <a:stretch/>
        </p:blipFill>
        <p:spPr>
          <a:xfrm>
            <a:off x="549360" y="1839960"/>
            <a:ext cx="4551120" cy="3965400"/>
          </a:xfrm>
          <a:prstGeom prst="rect">
            <a:avLst/>
          </a:prstGeom>
          <a:ln w="0">
            <a:noFill/>
          </a:ln>
        </p:spPr>
      </p:pic>
      <p:pic>
        <p:nvPicPr>
          <p:cNvPr id="252" name="1 Imagen" descr=""/>
          <p:cNvPicPr/>
          <p:nvPr/>
        </p:nvPicPr>
        <p:blipFill>
          <a:blip r:embed="rId2"/>
          <a:stretch/>
        </p:blipFill>
        <p:spPr>
          <a:xfrm>
            <a:off x="6084720" y="1839960"/>
            <a:ext cx="2826000" cy="2536920"/>
          </a:xfrm>
          <a:prstGeom prst="rect">
            <a:avLst/>
          </a:prstGeom>
          <a:ln w="0">
            <a:noFill/>
          </a:ln>
        </p:spPr>
      </p:pic>
      <p:cxnSp>
        <p:nvCxnSpPr>
          <p:cNvPr id="253" name="5 Conector recto de flecha"/>
          <p:cNvCxnSpPr/>
          <p:nvPr/>
        </p:nvCxnSpPr>
        <p:spPr>
          <a:xfrm flipH="1">
            <a:off x="3203280" y="2637000"/>
            <a:ext cx="3169440" cy="2232720"/>
          </a:xfrm>
          <a:prstGeom prst="straightConnector1">
            <a:avLst/>
          </a:prstGeom>
          <a:ln w="26280">
            <a:solidFill>
              <a:srgbClr val="808da0"/>
            </a:solidFill>
            <a:miter/>
            <a:tailEnd len="med" type="arrow" w="med"/>
          </a:ln>
        </p:spPr>
      </p:cxnSp>
      <p:sp>
        <p:nvSpPr>
          <p:cNvPr id="254" name="6 Forma libre"/>
          <p:cNvSpPr/>
          <p:nvPr/>
        </p:nvSpPr>
        <p:spPr>
          <a:xfrm>
            <a:off x="6342120" y="2103480"/>
            <a:ext cx="772920" cy="709560"/>
          </a:xfrm>
          <a:custGeom>
            <a:avLst/>
            <a:gdLst/>
            <a:ahLst/>
            <a:rect l="l" t="t" r="r" b="b"/>
            <a:pathLst>
              <a:path w="773723" h="709636">
                <a:moveTo>
                  <a:pt x="527538" y="17975"/>
                </a:moveTo>
                <a:cubicBezTo>
                  <a:pt x="412205" y="-5092"/>
                  <a:pt x="428421" y="-6875"/>
                  <a:pt x="246184" y="17975"/>
                </a:cubicBezTo>
                <a:cubicBezTo>
                  <a:pt x="232224" y="19879"/>
                  <a:pt x="223890" y="35699"/>
                  <a:pt x="211015" y="41421"/>
                </a:cubicBezTo>
                <a:cubicBezTo>
                  <a:pt x="188431" y="51458"/>
                  <a:pt x="140677" y="64867"/>
                  <a:pt x="140677" y="64867"/>
                </a:cubicBezTo>
                <a:cubicBezTo>
                  <a:pt x="85581" y="119962"/>
                  <a:pt x="114704" y="86241"/>
                  <a:pt x="58615" y="170375"/>
                </a:cubicBezTo>
                <a:cubicBezTo>
                  <a:pt x="50800" y="182098"/>
                  <a:pt x="39624" y="192178"/>
                  <a:pt x="35169" y="205544"/>
                </a:cubicBezTo>
                <a:cubicBezTo>
                  <a:pt x="8372" y="285935"/>
                  <a:pt x="40016" y="186157"/>
                  <a:pt x="11723" y="299329"/>
                </a:cubicBezTo>
                <a:cubicBezTo>
                  <a:pt x="8726" y="311317"/>
                  <a:pt x="3908" y="322775"/>
                  <a:pt x="0" y="334498"/>
                </a:cubicBezTo>
                <a:cubicBezTo>
                  <a:pt x="10150" y="446149"/>
                  <a:pt x="256" y="446506"/>
                  <a:pt x="35169" y="533790"/>
                </a:cubicBezTo>
                <a:cubicBezTo>
                  <a:pt x="42984" y="553329"/>
                  <a:pt x="47462" y="574561"/>
                  <a:pt x="58615" y="592406"/>
                </a:cubicBezTo>
                <a:cubicBezTo>
                  <a:pt x="80950" y="628143"/>
                  <a:pt x="99363" y="626363"/>
                  <a:pt x="128953" y="651021"/>
                </a:cubicBezTo>
                <a:cubicBezTo>
                  <a:pt x="141689" y="661635"/>
                  <a:pt x="150328" y="676994"/>
                  <a:pt x="164123" y="686190"/>
                </a:cubicBezTo>
                <a:cubicBezTo>
                  <a:pt x="183363" y="699016"/>
                  <a:pt x="261118" y="708217"/>
                  <a:pt x="269630" y="709636"/>
                </a:cubicBezTo>
                <a:cubicBezTo>
                  <a:pt x="359798" y="704001"/>
                  <a:pt x="441365" y="705339"/>
                  <a:pt x="527538" y="686190"/>
                </a:cubicBezTo>
                <a:cubicBezTo>
                  <a:pt x="539601" y="683509"/>
                  <a:pt x="551654" y="679993"/>
                  <a:pt x="562707" y="674467"/>
                </a:cubicBezTo>
                <a:cubicBezTo>
                  <a:pt x="575949" y="667846"/>
                  <a:pt x="637891" y="629803"/>
                  <a:pt x="656492" y="615852"/>
                </a:cubicBezTo>
                <a:cubicBezTo>
                  <a:pt x="676509" y="600839"/>
                  <a:pt x="695569" y="584591"/>
                  <a:pt x="715107" y="568960"/>
                </a:cubicBezTo>
                <a:lnTo>
                  <a:pt x="750277" y="463452"/>
                </a:lnTo>
                <a:cubicBezTo>
                  <a:pt x="754185" y="451729"/>
                  <a:pt x="759577" y="440400"/>
                  <a:pt x="762000" y="428283"/>
                </a:cubicBezTo>
                <a:lnTo>
                  <a:pt x="773723" y="369667"/>
                </a:lnTo>
                <a:cubicBezTo>
                  <a:pt x="769815" y="326682"/>
                  <a:pt x="774179" y="282121"/>
                  <a:pt x="762000" y="240713"/>
                </a:cubicBezTo>
                <a:cubicBezTo>
                  <a:pt x="740178" y="166519"/>
                  <a:pt x="722110" y="182072"/>
                  <a:pt x="679938" y="146929"/>
                </a:cubicBezTo>
                <a:cubicBezTo>
                  <a:pt x="667202" y="136315"/>
                  <a:pt x="657505" y="122374"/>
                  <a:pt x="644769" y="111760"/>
                </a:cubicBezTo>
                <a:cubicBezTo>
                  <a:pt x="633945" y="102740"/>
                  <a:pt x="620424" y="97333"/>
                  <a:pt x="609600" y="88313"/>
                </a:cubicBezTo>
                <a:cubicBezTo>
                  <a:pt x="584723" y="67582"/>
                  <a:pt x="571011" y="41604"/>
                  <a:pt x="539261" y="29698"/>
                </a:cubicBezTo>
                <a:cubicBezTo>
                  <a:pt x="520604" y="22702"/>
                  <a:pt x="500184" y="21883"/>
                  <a:pt x="480646" y="17975"/>
                </a:cubicBezTo>
                <a:cubicBezTo>
                  <a:pt x="304917" y="43079"/>
                  <a:pt x="371786" y="41421"/>
                  <a:pt x="281353" y="41421"/>
                </a:cubicBezTo>
              </a:path>
            </a:pathLst>
          </a:custGeom>
          <a:noFill/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D:\imágenes de Carmen\mapasyplanos\necromanteionplano.bmp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D:\imágenes de Carmen\mitologicas\hades2-2.jpg"/>
          <p:cNvPicPr/>
          <p:nvPr/>
        </p:nvPicPr>
        <p:blipFill>
          <a:blip r:embed="rId1"/>
          <a:stretch/>
        </p:blipFill>
        <p:spPr>
          <a:xfrm>
            <a:off x="2654280" y="333360"/>
            <a:ext cx="40910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D:\imágenes de Carmen\mitologicas\elpasodelalagunaestigiapatinir.jpg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D:\imágenes de Carmen\mitologicas\9caronte.jpg"/>
          <p:cNvPicPr/>
          <p:nvPr/>
        </p:nvPicPr>
        <p:blipFill>
          <a:blip r:embed="rId1"/>
          <a:stretch/>
        </p:blipFill>
        <p:spPr>
          <a:xfrm>
            <a:off x="207180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D:\imágenes de Carmen\mitologicas\19cerbero.jpg"/>
          <p:cNvPicPr/>
          <p:nvPr/>
        </p:nvPicPr>
        <p:blipFill>
          <a:blip r:embed="rId1"/>
          <a:stretch/>
        </p:blipFill>
        <p:spPr>
          <a:xfrm>
            <a:off x="304920" y="476280"/>
            <a:ext cx="8534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:\imágenes de Carmen\mitologicas\cerberobomarzo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D:\imágenes de Carmen\mitologicas\cancerbero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D:\imágenes de Carmen\mitologicas\sisifo.jpg"/>
          <p:cNvPicPr/>
          <p:nvPr/>
        </p:nvPicPr>
        <p:blipFill>
          <a:blip r:embed="rId1"/>
          <a:stretch/>
        </p:blipFill>
        <p:spPr>
          <a:xfrm>
            <a:off x="1563840" y="0"/>
            <a:ext cx="60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38:44Z</dcterms:created>
  <dc:creator>Carmen</dc:creator>
  <dc:description/>
  <dc:language>en-US</dc:language>
  <cp:lastModifiedBy>carmen.lacruz</cp:lastModifiedBy>
  <dcterms:modified xsi:type="dcterms:W3CDTF">2015-07-28T08:40:28Z</dcterms:modified>
  <cp:revision>6</cp:revision>
  <dc:subject/>
  <dc:title>Presentación de PowerPoint</dc:title>
</cp:coreProperties>
</file>